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A59-C7D5-4173-A51F-1EE3D085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67D2-20FB-4CD0-AE02-61CEED84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175-9899-4998-ABE3-19AF22C7D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CE4-E5BE-4839-920B-0802D373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3962-F555-433D-A660-C453AABAE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15C-70C8-4951-B8AA-96C4AF44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F959-5B7E-4321-8127-89BF8AD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6DC26-C522-47D1-83CC-71D1813E0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E2E1-A6E0-4635-80CA-4FC08A27E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5449-B710-4480-A6FC-192839DC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D82A8-F197-47BE-A3B7-815D785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899D-BE82-4D50-8BC7-2BE549FB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5D436-EFFB-48EE-B3D2-23F888A1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DB9E-AD6E-4181-854F-BC814506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CCF41-043E-466A-B3B6-25792127F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7E4E-5490-4F76-8D59-DBB024E2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4A86-A788-4CAA-803F-B15FDA1E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3CA-ED83-4C92-937A-C7683FC4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E22A-9A74-4F39-A61A-F04FE1B7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B4B0-4678-468B-BC94-261C7C4A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049-FF57-45D3-A195-E0521301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1AF5-E586-49A0-836C-8BBCA1A1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3981-1DE7-4956-A5A8-4BD95C6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5B3-CE40-4406-A91B-F977F742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7886-1EDB-4DDF-B21F-7C40A820B2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28E1-B746-4155-885D-9D32410651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he purpose of grading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 Heacox. 2002, Chapter 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 based on rigor: student choi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a grade of 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 the necessary evidence of of mastery of unit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oosing  a grade of B or A level work involves students in more complexity, stretches thinking and asks students to extend learning to real life contexts(p.122)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</a:t>
            </a:r>
            <a:br>
              <a:rPr sz="4400"/>
            </a:br>
            <a:r>
              <a:rPr b="0" lang="en-US" sz="2700" spc="-1" strike="noStrike">
                <a:solidFill>
                  <a:srgbClr val="e5ffff"/>
                </a:solidFill>
                <a:latin typeface="Tahoma"/>
              </a:rPr>
              <a:t>Heacox p.123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do you equalize time when students choose more or less time consuming project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tally 10 may help you manage time be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ask that can be chosen is given a score of 2,4,6,or 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tudents select one project or several that add up to a score of 10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the following criteria for tiering projects, assigning scores and calculating a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riteri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knowledge/ comprehension or application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2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pplication and or analy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4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analysis,evaluation, and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60% of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ore 10 projects at analysis, evaluation or synthesis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hibits greater complexity, depth or abstractness than do score 6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WOW project that reflects rigor rather than simply more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ccounts for 100% of final gra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udents can select several smaller projec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example; one score 6 projects and two score 2 projec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one score 6 project and one score  4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 students can choose the challenging score 10 project and do just one projec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quiring several smaller projects or one or two complex projects should result in students completing work in a similar time fr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otally 10 continu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 lines; students must choose from at least two categories ( not everything from score tw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at each level are graded on quality criteria provide ahead of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tudent must meet the standard for work to be considered A 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thentic Assessment: The Key to Unlocking Student 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k A. Baron, Floyd Bosche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1995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All projects should be available to all stud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 students can think and learn at higher challenge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your criteria for quality work high, yet attainable. See pages 121, 122, and 123  for exampl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uthenti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suring student performance ba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 tasks that are relevant and useful 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l life.  These methods include, but are not limited to, student portfolios, oral reports, and reflective journa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ive students and their parents feed back on learning progr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on the quality of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 need to know and understand your expectation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tasks basic or advanced are  evaluated on whether or not they meet the quality criteria for that tas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stablishing Quality Cri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clear and conc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e specif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language that students underst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flect a high level of expect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invite less than the highest quality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example instead of “has fewer than four spelling errors,” say “uses correct spelling”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cribe what you want , not what you do not wa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ow to avoid sending false messages to students and parent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we avoid inflating the grades of students who do less complex task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differentiated grades are just a consideration in your overall  gra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track of the differentiated  gr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ight the value of assign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differentiated assignment may have a point value less than that of a test for all stud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o not grade everything yourself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udents may assess their own or a peer’s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your criter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 the use of evaluation checklists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checklist can guide their wor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ing self and peer evaluations strengthens the students’ independence and judgmen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er evaluators  mus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 given evaluation checklists (i.e. the checklist for literature circle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Grades and rig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airness does become an issue when the only difference between and A and a B is the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jects should reflect differences in rigor rather than differences in amount of wor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cox suggests offering a choice of assignments correlated with their challenge level ( Blooms’ taxonom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21:11:15Z</dcterms:created>
  <dc:creator>STU</dc:creator>
  <dc:description/>
  <dc:language>en-US</dc:language>
  <cp:lastModifiedBy>Heather Richmond</cp:lastModifiedBy>
  <dcterms:modified xsi:type="dcterms:W3CDTF">2009-01-13T20:41:08Z</dcterms:modified>
  <cp:revision>11</cp:revision>
  <dc:subject/>
  <dc:title> The purpose of grading </dc:title>
</cp:coreProperties>
</file>